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2202"/>
        <c:axId val="38387342"/>
      </c:barChart>
      <c:catAx>
        <c:axId val="8822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87342"/>
        <c:crosses val="autoZero"/>
        <c:auto val="1"/>
        <c:lblAlgn val="ctr"/>
        <c:lblOffset val="100"/>
        <c:noMultiLvlLbl val="0"/>
      </c:catAx>
      <c:valAx>
        <c:axId val="38387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2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165-FB9A-4255-85A3-D831D367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970-50FC-479E-90A6-55BC2F66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6961-73AD-4CA0-9EC6-1F126CD6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FC6-C480-43E5-97F6-ADA64101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965-33F2-4E3E-9CE4-8DF7F548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D206-42DC-4C4E-9F05-EE410E73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F1E-2202-41EE-97C3-4BB4C5A3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A84-F94F-49BC-A7B6-D7E30956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654-927E-419F-B1A6-7F06A61E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365-624B-41C4-ACD7-62748A3D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172-AC0C-44F0-8A70-FD5E3BC6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C01-DF0C-47FF-B990-74D2F0D9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C84B3-A475-4C53-8169-EE66252016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