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77169"/>
        <c:axId val="92889291"/>
      </c:barChart>
      <c:catAx>
        <c:axId val="88577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89291"/>
        <c:crosses val="autoZero"/>
        <c:auto val="1"/>
        <c:lblAlgn val="ctr"/>
        <c:lblOffset val="100"/>
        <c:noMultiLvlLbl val="0"/>
      </c:catAx>
      <c:valAx>
        <c:axId val="92889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77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549-4FDD-4FB4-8A35-2A127E8A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6AE-318D-4860-8A13-66D96504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15F-C981-402C-BC38-943D4FBA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D6E-5F4A-4744-973F-B2948E14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1A9-0363-43A8-81B1-5B78A4DD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601-1041-4F40-8378-31372A17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2BC-B5EB-451D-87FF-7295C0BC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CF1-37AF-4D53-99A2-7153A381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3CD-7876-4787-9ADE-8803D786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200-D82F-4844-8109-52929F53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B8F-A715-4AF6-81C7-F1921039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C62-0D77-4462-85AB-BC62318D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18AE6-6721-4768-81CC-DDFB9E2A4C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