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23864"/>
        <c:axId val="47438902"/>
      </c:barChart>
      <c:catAx>
        <c:axId val="948238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38902"/>
        <c:crosses val="autoZero"/>
        <c:auto val="1"/>
        <c:lblAlgn val="ctr"/>
        <c:lblOffset val="100"/>
        <c:noMultiLvlLbl val="0"/>
      </c:catAx>
      <c:valAx>
        <c:axId val="47438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238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D8E-0C1D-4833-B52A-E327E2B9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D69-3327-4C6E-97C0-D347A66B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971-B62A-4379-8321-C4E80375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C72C-A138-469B-A0D2-14176E75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09D-138E-4998-9EC4-30CF06FE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482-CE3A-44C9-8D42-26A7C849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4A4-05D9-45D1-BA48-BBB239F7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AFFA-0E65-401E-B979-305E41A4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2325-340A-43BC-BE62-861EA293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D353-DD09-4A83-B0B4-3E158090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3C7-5F4B-4922-A80D-0E9AD2FC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2B4-3BAF-4BE3-AD2B-38A78FF7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FF9E3-8668-471C-956A-F108646D34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