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10399"/>
        <c:axId val="7880996"/>
      </c:barChart>
      <c:catAx>
        <c:axId val="76110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0996"/>
        <c:crosses val="autoZero"/>
        <c:auto val="1"/>
        <c:lblAlgn val="ctr"/>
        <c:lblOffset val="100"/>
        <c:noMultiLvlLbl val="0"/>
      </c:catAx>
      <c:valAx>
        <c:axId val="7880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10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23D-A785-4DB7-9295-052C6440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380-EDC3-4C2E-90C0-5C0FD9D7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C7F-BE43-4054-B789-129406A3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D09-C4A8-4454-A6C4-C9208181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EFC-BDC4-40E9-BB6C-EFD1AC4D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A22-342A-4FDF-B211-23A17D84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9F0-EEEC-457F-8209-068D0663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0D2-CB79-4998-AB93-0E8F5378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04F-2E49-422A-B8EF-56C3761D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57F-C23B-4793-914C-074135C1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18F-5870-4522-8BC6-87BA700D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82E-B7D0-464E-9941-C68E032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E03F3-E526-444D-9039-DCE46D0FD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