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55546"/>
        <c:axId val="2940856"/>
      </c:barChart>
      <c:catAx>
        <c:axId val="68255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856"/>
        <c:crosses val="autoZero"/>
        <c:auto val="1"/>
        <c:lblAlgn val="ctr"/>
        <c:lblOffset val="100"/>
        <c:noMultiLvlLbl val="0"/>
      </c:catAx>
      <c:valAx>
        <c:axId val="2940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5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FDB-065A-4958-8678-F4B0C11B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6CF-3C8A-4118-A35A-32D9A91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2F5-F02C-4644-B73B-383D7E93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416-D38A-4E27-B1A7-DFD57C04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688-B55F-48CB-9E99-DB3F995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E21-B4C7-484B-86F7-0F144D2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946-4D7D-4320-9AD1-0A16E22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D0E-0993-4FFF-BCD4-8147B25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FE1-2AEF-4496-A882-75E4262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327-C24B-4B7E-870E-15ACAF7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928-6E31-4D5E-B886-FA85E0D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880-9DCE-44F4-83FB-8EB5A5C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1952-CFD3-472C-A63D-7D04433860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