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32322"/>
        <c:axId val="73756314"/>
      </c:barChart>
      <c:catAx>
        <c:axId val="17732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56314"/>
        <c:crosses val="autoZero"/>
        <c:auto val="1"/>
        <c:lblAlgn val="ctr"/>
        <c:lblOffset val="100"/>
        <c:noMultiLvlLbl val="0"/>
      </c:catAx>
      <c:valAx>
        <c:axId val="73756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32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2B6-02F4-4C97-8136-B99C37C5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F5C-DC77-491B-BEF2-F84D1585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2E2-F908-468B-86B3-CC57E327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5F7-DF6A-40A7-9858-77AD59F9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A46-4491-4B1E-AC61-555650FA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3D3-CCAD-423F-A69C-CBFA9CA4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711-0E67-4005-A1DB-14E1731F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860-5FFD-4E1E-B1E6-EE318306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5AD-9438-473F-8946-CE031879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DE4-BDD2-41CC-859B-60C3DA53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6BF-511C-4303-B41F-9CF251E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AA1-5426-409E-B0D9-93416413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46E69-DFDD-4DB8-9999-6AA08BAB07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