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3494759"/>
        <c:axId val="5312235"/>
      </c:barChart>
      <c:catAx>
        <c:axId val="5349475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12235"/>
        <c:crosses val="autoZero"/>
        <c:auto val="1"/>
        <c:lblAlgn val="ctr"/>
        <c:lblOffset val="100"/>
        <c:noMultiLvlLbl val="0"/>
      </c:catAx>
      <c:valAx>
        <c:axId val="531223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49475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E207-37DD-48D3-8E9F-3069372D8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B3E0-1C5A-4115-994E-6466D44A1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8A9C-CF87-4DC1-9127-002BD3A0D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E8DD-F2E0-4A47-B1C5-89C55E3A6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C477-28D9-4C20-87B0-57372E19D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7102-F719-4ECB-9C61-1D607278B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9DD7-04FD-49CD-A41F-819A1FA2E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2803-F5FF-4025-85D6-DC302EDD6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8095-D56E-465C-8E8B-7FC012215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B941-B505-4607-A978-609B50839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2B47-B287-4341-8F11-05BAE17BA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50D2-4EE4-47E4-8CF4-BC2D537FD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4141C4-F201-4976-8B2D-ACAE54D43C9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