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47155"/>
        <c:axId val="98700457"/>
      </c:barChart>
      <c:catAx>
        <c:axId val="31047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00457"/>
        <c:crosses val="autoZero"/>
        <c:auto val="1"/>
        <c:lblAlgn val="ctr"/>
        <c:lblOffset val="100"/>
        <c:noMultiLvlLbl val="0"/>
      </c:catAx>
      <c:valAx>
        <c:axId val="98700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47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3D1-8B9E-458D-AC86-DB1C90D0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60B-3B85-4EE7-8757-D9913448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C0D-882F-4A6D-ABFC-A4C7E2D5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503-38B1-4D12-818D-0785ED30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D69-B1EC-4BEE-9279-91A232AE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105-645D-4CC1-BCE1-8F64CD7D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0C3-3F13-4E25-A164-B1B52AFC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83D-EBC8-4E1B-BB08-2B048099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6B1-8167-4C05-A8C6-71D53167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3C2-A019-4AFF-8C23-E8512BBE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4ED-B108-41D2-8D95-AEE9B0D2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D66E-A570-47D0-9486-736C0EAC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5D13C-A548-4926-B6AE-8F5A892476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