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57832"/>
        <c:axId val="74028514"/>
      </c:barChart>
      <c:catAx>
        <c:axId val="28457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28514"/>
        <c:crosses val="autoZero"/>
        <c:auto val="1"/>
        <c:lblAlgn val="ctr"/>
        <c:lblOffset val="100"/>
        <c:noMultiLvlLbl val="0"/>
      </c:catAx>
      <c:valAx>
        <c:axId val="74028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57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C3D-5D8D-4D44-B1AA-EBE220E5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D82-F4B0-4213-8E6A-D3082243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78C-BAF5-4EEC-B37D-9B746029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7C1-9D06-4475-B017-AC0A73A6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B00-4718-4031-A282-0B772377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ECA-6A47-42AF-9BB0-EA3E3827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825-037C-4C64-8A0F-348B6BD1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0BB-AB06-4B7F-92F7-E8276B9E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2E0-829D-48CC-86AE-2451815D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3BF-F791-48B8-BE22-0D77936A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B16-3709-4198-85E5-C218F80E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20C-E083-472D-9A12-CE332588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0C806-5280-47C0-9FD5-7AB5BEDDD0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