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86844"/>
        <c:axId val="29422862"/>
      </c:barChart>
      <c:catAx>
        <c:axId val="33686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2862"/>
        <c:crosses val="autoZero"/>
        <c:auto val="1"/>
        <c:lblAlgn val="ctr"/>
        <c:lblOffset val="100"/>
        <c:noMultiLvlLbl val="0"/>
      </c:catAx>
      <c:valAx>
        <c:axId val="29422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86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12E-42B3-4CCD-98D5-F01BA738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79A-50FD-4DB5-A98F-4946F249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947-A4E5-4A4B-923B-08B1B27C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0F9-2D76-4A26-A9E6-A979992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AFF-7C2A-4862-9B5C-D06337C3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E17-000E-4EAD-8FF0-DB15AC6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ABC-E68B-4545-9B86-EF32B3F0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209-4793-41A5-AD38-6579026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C2B-BEBB-4D2F-933B-913B350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45D-95F4-44AA-B33D-8610FBA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DE7-B827-4B70-AF6A-5C1141B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F42-4FBA-4E26-BCBD-13DD2F56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C7700-9B2A-4532-B73A-5D44DF234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