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20049"/>
        <c:axId val="53473822"/>
      </c:barChart>
      <c:catAx>
        <c:axId val="84120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73822"/>
        <c:crosses val="autoZero"/>
        <c:auto val="1"/>
        <c:lblAlgn val="ctr"/>
        <c:lblOffset val="100"/>
        <c:noMultiLvlLbl val="0"/>
      </c:catAx>
      <c:valAx>
        <c:axId val="53473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0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27D-A5F2-4B2B-8AC3-B54A583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A11-BA2C-41CD-9964-83BF323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FA-C6FD-4810-82F5-34E8CE98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653-9503-4200-A0CE-A5FF87D9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D35-493A-4F69-89A9-66268EF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D4-510D-4FC9-B501-83FD695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C33-3AC9-4FB8-ABF5-EB6CF07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654-55E2-42AE-92FA-60570A3D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703-1F47-42C1-845F-BD56F09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3D8-0F5C-4E41-BFEB-117D9692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B59-D780-47CB-8C10-FA2E82D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890-C5A3-443D-8DDF-8528100E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36FD-2860-4FD7-BBA6-A2214196B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