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77665"/>
        <c:axId val="39028380"/>
      </c:barChart>
      <c:catAx>
        <c:axId val="13577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28380"/>
        <c:crosses val="autoZero"/>
        <c:auto val="1"/>
        <c:lblAlgn val="ctr"/>
        <c:lblOffset val="100"/>
        <c:noMultiLvlLbl val="0"/>
      </c:catAx>
      <c:valAx>
        <c:axId val="39028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77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299-DD41-442E-A725-AA61B679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BD3-1044-43C6-B3C2-01D2FBD9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530-AE2F-4C1E-B1FE-C8A42FAF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A2F-6D6A-450A-AA9B-1407CD28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2EC-394A-40F9-A377-05934B58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E5D-1309-4833-8B4F-9FB888F5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0E4-2CA6-4DF6-98E5-DDA81519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F4D-BED2-4509-915B-2BE78FF1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21B-E2E6-416A-974B-A135DC99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250-535D-4DD9-869C-269C0778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3F2-979E-44DA-AC06-32452203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DF3-5564-43F9-81F5-B2A39BE8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8CF08-C29C-44CE-BB6E-01008B2AB6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