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813555"/>
        <c:axId val="38404527"/>
      </c:barChart>
      <c:catAx>
        <c:axId val="918135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404527"/>
        <c:crosses val="autoZero"/>
        <c:auto val="1"/>
        <c:lblAlgn val="ctr"/>
        <c:lblOffset val="100"/>
        <c:noMultiLvlLbl val="0"/>
      </c:catAx>
      <c:valAx>
        <c:axId val="384045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8135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9CE9-3592-4405-8838-89A98D74C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6C8D-0BCC-4FEF-AACA-338CFBC03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3274-02C2-4CCA-B93F-935952F17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A3AE-5FD4-45E5-9C2D-7D23BD6D3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5A08-02D3-49A2-AA68-EE67EAA16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5961-422B-4F6F-B68F-3BE4D1FB1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AE3D-6910-426C-A0B2-67273D084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A9A2-9250-4E38-BE2A-C85E599AB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50E0-2651-4424-B6E6-8D498C50D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0426-7CCF-46E2-A7C5-C7516778A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774C-1052-40C2-BC77-0BB19484B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90EF-B271-4725-9AAE-794373380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E9B9CC-BA0C-4A0F-B6CA-FC5F01C5F08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