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71138"/>
        <c:axId val="81077246"/>
      </c:barChart>
      <c:catAx>
        <c:axId val="67771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7246"/>
        <c:crosses val="autoZero"/>
        <c:auto val="1"/>
        <c:lblAlgn val="ctr"/>
        <c:lblOffset val="100"/>
        <c:noMultiLvlLbl val="0"/>
      </c:catAx>
      <c:valAx>
        <c:axId val="81077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1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639-936A-4F56-BDC1-92B1D0AF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DEB-27CA-467B-9E94-652C0A96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273-A9EC-4003-B709-8AB56914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347-35DF-47C1-AEE7-7EDCC261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917-5DAC-420C-96FC-6126118B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EBD-D6CE-44B8-8AD1-28600971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DB6-11B6-4D0E-8D64-4953D821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454-1E04-4F88-832C-C81BCC15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B7A-702E-4A29-93A6-5DD4D9F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836-ABAF-44BC-867C-2E0B285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B12-C614-4DC6-966E-CB5BE9B9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82C-8807-4FCE-A03D-1F4DAC47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12F81-9E64-4B11-B2DA-65552AC43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