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92408"/>
        <c:axId val="64456623"/>
      </c:barChart>
      <c:catAx>
        <c:axId val="13492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56623"/>
        <c:crosses val="autoZero"/>
        <c:auto val="1"/>
        <c:lblAlgn val="ctr"/>
        <c:lblOffset val="100"/>
        <c:noMultiLvlLbl val="0"/>
      </c:catAx>
      <c:valAx>
        <c:axId val="64456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92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01A-CF16-481E-A8ED-8ECAAAA3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A8D-A030-46E7-B3E9-6261C3F9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936-2769-4967-BD11-42D77336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D0E-5ADC-4DF3-BD35-69F6FD18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741-1C0F-41A3-A128-2BD7C0C4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E62-B36E-4A43-A306-44E90783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95F-09FB-42CF-9AC4-7483DE7B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0D6-8D9D-46DB-A293-68DD68F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95D-5648-4438-B529-C148D415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A25-16C8-4BAD-99EE-CC35308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FC5-780D-4B64-8E37-2FEA733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39C-DA41-4C86-B1A7-F3112947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4460D-D92C-4966-B575-64987F6FBA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