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40498"/>
        <c:axId val="46282887"/>
      </c:barChart>
      <c:catAx>
        <c:axId val="28440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82887"/>
        <c:crosses val="autoZero"/>
        <c:auto val="1"/>
        <c:lblAlgn val="ctr"/>
        <c:lblOffset val="100"/>
        <c:noMultiLvlLbl val="0"/>
      </c:catAx>
      <c:valAx>
        <c:axId val="46282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40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3A9-E18D-4399-A845-3CF9EB37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613-7EC5-4A96-B6BE-C7B12C17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12A-BE21-4E4A-8490-D4BC1EA2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722-4BE1-4260-8701-F5AF06F4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0EEB-6841-4B0A-8650-FE630CA2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9AD-17E4-420A-9305-7B2DF794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36DC-2187-42B6-9A33-6079F88D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88DA-12D7-4FF7-BE92-7B260FCA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DFA-0050-4C5E-B7DF-AE09AA80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CC3-43D5-4D96-AADF-4B4A9190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E88-98A5-4EA2-B481-BC9099C0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DF90-1ED5-4916-AE26-31FB2E62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F7A9A-CE2E-4A00-B308-20BC2305A2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