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16058"/>
        <c:axId val="19089407"/>
      </c:barChart>
      <c:catAx>
        <c:axId val="33416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89407"/>
        <c:crosses val="autoZero"/>
        <c:auto val="1"/>
        <c:lblAlgn val="ctr"/>
        <c:lblOffset val="100"/>
        <c:noMultiLvlLbl val="0"/>
      </c:catAx>
      <c:valAx>
        <c:axId val="19089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16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3E1-5AE4-4DA6-836E-94C4EE05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B81-8C70-45CB-AA54-412080B8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0C91-3DDA-4EE9-B181-E9A2CB59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9CF-AE80-4D42-ABC0-70EB12C2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78C-C8D3-4800-9968-F31BDC6A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5630-42E1-4C0B-8705-B6B3C352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0757-DC94-4BDA-88CF-BF209648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733-0336-4001-89C5-B96A4EE3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5D6-27A0-4360-BA26-1D54D064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13E-EA50-4B46-87CA-B53A926B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A474-674E-4DD8-B118-4E165F22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E0B-C0AB-4D44-9AD2-0E4BBAEE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FDA68-CCA1-4063-AA18-560E8FBEF6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