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52365"/>
        <c:axId val="14410370"/>
      </c:barChart>
      <c:catAx>
        <c:axId val="51252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10370"/>
        <c:crosses val="autoZero"/>
        <c:auto val="1"/>
        <c:lblAlgn val="ctr"/>
        <c:lblOffset val="100"/>
        <c:noMultiLvlLbl val="0"/>
      </c:catAx>
      <c:valAx>
        <c:axId val="14410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52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706-1950-4F34-9569-76A15E89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5E0-0E07-4FDA-8AD0-0FF00DA7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192-D666-4F7A-82FD-4AD715B0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6D6-ACA2-438A-B530-9EE3CFFC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EAE-AEA2-4D32-909A-6F4FA343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841-7AA7-4760-9F9D-4ED31290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BD5-0572-489E-9A40-EDDFA741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05F-9E18-42FA-AB2C-0CF6F231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559-8DD7-4DFB-AB18-BD4B6F51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554-C624-41DF-8D1D-2B7F773D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A14-508A-4538-AAF3-4B15E1D9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086-C8B0-4CA5-AA2B-DCF4F6C8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3F92E-A7A8-4E34-AF26-C34C50E694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