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71907"/>
        <c:axId val="50912121"/>
      </c:barChart>
      <c:catAx>
        <c:axId val="36871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12121"/>
        <c:crosses val="autoZero"/>
        <c:auto val="1"/>
        <c:lblAlgn val="ctr"/>
        <c:lblOffset val="100"/>
        <c:noMultiLvlLbl val="0"/>
      </c:catAx>
      <c:valAx>
        <c:axId val="5091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71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E71-353E-4B8D-BAC6-5A3AF495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6F7-F66D-4711-A620-4B6435BC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89F-1CA0-423B-B9E0-8A1730A8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BD5-9814-44F2-B111-891CA458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3B5-8B7D-4498-A004-1F1DCCDA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F15-DB5F-41FE-8F7A-FFBFB1E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73E-178C-42E7-9FC4-23F3D86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F6D-6DC9-4C51-9676-7E13C70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DE3-7DB6-4BF6-BE9A-C3572566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AA5-48FD-4A42-A815-2D93A3E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0C2-81B6-4016-A306-4AE0B16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D40-A12E-4FB3-9A95-0E76536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FD801-A45D-4990-BCB7-1DF164BFF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