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25972"/>
        <c:axId val="20847158"/>
      </c:barChart>
      <c:catAx>
        <c:axId val="48825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47158"/>
        <c:crosses val="autoZero"/>
        <c:auto val="1"/>
        <c:lblAlgn val="ctr"/>
        <c:lblOffset val="100"/>
        <c:noMultiLvlLbl val="0"/>
      </c:catAx>
      <c:valAx>
        <c:axId val="20847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25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DF1-C304-4E13-926F-43FE9596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F45-D025-410D-8EEF-64036570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7D7-CDDB-470D-BD24-E3EB75A2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6A6-D72D-4E5B-A084-B9E5FEC1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C58-791A-4A78-932B-0E022E7F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277-9A69-4AC8-A0B1-8EAA1D5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076-DD19-4246-B0D5-6D9CA26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7B7-BCB2-47D3-B437-145B2CF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D44-D014-42B6-89B9-4329DB8A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F46-C7D5-40DD-85DB-DCFADE9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320-75A6-4BE1-825B-9252F362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643-C63D-454E-AC45-1480835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3487-E5B5-43C2-AE26-17005D822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