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171781"/>
        <c:axId val="56512349"/>
      </c:barChart>
      <c:catAx>
        <c:axId val="781717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512349"/>
        <c:crosses val="autoZero"/>
        <c:auto val="1"/>
        <c:lblAlgn val="ctr"/>
        <c:lblOffset val="100"/>
        <c:noMultiLvlLbl val="0"/>
      </c:catAx>
      <c:valAx>
        <c:axId val="565123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1717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725A-ECEC-4121-B307-B09162810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39FD-72B9-4394-9706-C72BEACE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0B9C-31DB-467B-8302-A3D5367E0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43F7-587A-4482-BCA9-FB7ED52DE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9478-5F8C-4446-9BD1-CBD8133F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B386-A331-4F1D-8698-A6A94912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566D-68B8-4634-BF35-7DDD2062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F133-C5B4-42BB-B9E4-A4A0E1F1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8C0F-0243-4C36-8C4A-A355E25D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26B7-0EF3-4490-85F3-BBBEEBFA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56C7-AAB5-46B7-90D2-D6838B0A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6B2E-6AA0-4E11-8721-9E679730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1015DD-342E-4FA4-AC99-5F30BAAA5F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