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54184"/>
        <c:axId val="20062490"/>
      </c:barChart>
      <c:catAx>
        <c:axId val="44954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2490"/>
        <c:crosses val="autoZero"/>
        <c:auto val="1"/>
        <c:lblAlgn val="ctr"/>
        <c:lblOffset val="100"/>
        <c:noMultiLvlLbl val="0"/>
      </c:catAx>
      <c:valAx>
        <c:axId val="20062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54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343-CF6D-46DD-BA71-1582DC19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0FE-4E75-4C2C-A449-BBCC8390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EE1-C0A8-4697-805C-A4129BAC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B60-A30F-40CB-BB44-589FA5A3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10F-0300-41E3-AB9B-51ADD7F5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B28-F9F0-419B-A3E0-580CFA02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CBF-40C3-4599-9F2B-FE081BFE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28D-FF27-4019-811C-987DCE99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6C0-1830-4826-B1E9-52113C16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8D2-F370-4F47-AB4E-E1928FA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E26-106E-4151-BF18-6FA2809D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216-DE65-4C2A-8323-E54381BB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794E9-2561-439C-AC4F-2A67D07B16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