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37263"/>
        <c:axId val="75803586"/>
      </c:barChart>
      <c:catAx>
        <c:axId val="94937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03586"/>
        <c:crosses val="autoZero"/>
        <c:auto val="1"/>
        <c:lblAlgn val="ctr"/>
        <c:lblOffset val="100"/>
        <c:noMultiLvlLbl val="0"/>
      </c:catAx>
      <c:valAx>
        <c:axId val="75803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37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039-BC0E-4503-9212-FCC44888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BC3-2DEE-4CC8-9FB5-A01F177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D80-B7C3-424B-957E-C03BCA6A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360-1656-4F0A-A8A9-3E807378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0A4-452B-4AB9-AC3D-958C3F8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052-E126-414F-863E-E129828F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ECD-943E-4FF2-86E5-2EE04FF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230-4D0C-4F93-84E0-046A9A0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4A3-84A3-40AA-911F-D0AC22C2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596-6A2E-4659-A1FD-CC6F65F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931-B558-4BB0-B029-9C2AB89A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F29-1693-4C75-AB1B-E3F4C23E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3E8CC-97DB-44DC-8C5E-BDEFDB569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