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385314"/>
        <c:axId val="91412684"/>
      </c:barChart>
      <c:catAx>
        <c:axId val="123853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12684"/>
        <c:crosses val="autoZero"/>
        <c:auto val="1"/>
        <c:lblAlgn val="ctr"/>
        <c:lblOffset val="100"/>
        <c:noMultiLvlLbl val="0"/>
      </c:catAx>
      <c:valAx>
        <c:axId val="914126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853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D5F7-F9D4-4651-B912-7A9B2534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AF8B-6E21-4C8B-8867-C2AF67B0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EC22-1266-4A1F-8F5B-A897AE04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0DD6-2D4E-4092-8C84-1DBAD44B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5921-8F86-40B7-B148-8AC6B084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5DC9-2D4B-49C6-9E88-28D45489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372F-065A-414F-A28A-DD237621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C32C-1C83-4717-9DC4-E6CC95E4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72F4-5AB2-448C-864E-58FDE4D4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021D-9E49-4599-9755-15BF8D3F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0BA4-4A55-499D-BC58-67317081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AE6-9415-4717-998B-6E123E4A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57C86-EFA9-4B37-B082-B85901E39F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