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21370"/>
        <c:axId val="27257261"/>
      </c:barChart>
      <c:catAx>
        <c:axId val="38121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7261"/>
        <c:crosses val="autoZero"/>
        <c:auto val="1"/>
        <c:lblAlgn val="ctr"/>
        <c:lblOffset val="100"/>
        <c:noMultiLvlLbl val="0"/>
      </c:catAx>
      <c:valAx>
        <c:axId val="27257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21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F0B-2B35-46C6-8D09-583126EB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187-2DAB-4EFC-9F81-DD0CAB14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1CF-4A38-4B4D-8162-5BD82210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2CB-FF13-4506-BE1C-5752A5F7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9B4-1F18-4494-90F8-69C8DBE4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4DB-4A9E-480A-848B-DDA44FE5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941-5A58-42A6-8783-C4E7F05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742-C3B3-48B7-85CC-FE9659D6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A97-E20A-40BA-9310-96BEBC2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29D-9839-40E0-B6D2-259EBCA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1F1-228A-4476-8EC1-31662F8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F98-F6BC-48FB-9D59-61F90A3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FD2D5-602D-486D-8ED9-5F572EAC8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