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01600"/>
        <c:axId val="94486510"/>
      </c:barChart>
      <c:catAx>
        <c:axId val="66501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6510"/>
        <c:crosses val="autoZero"/>
        <c:auto val="1"/>
        <c:lblAlgn val="ctr"/>
        <c:lblOffset val="100"/>
        <c:noMultiLvlLbl val="0"/>
      </c:catAx>
      <c:valAx>
        <c:axId val="94486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1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FB9-BD31-470C-A3C0-E845E982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F03-0645-4005-9460-A1C29B1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5A9-FD52-4553-B7C5-4C96C864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05C-E2AE-41DC-9AB4-F29DD91A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200-3EC2-46E1-B096-F5F9B59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D7B-42C9-4E66-85B8-6493ED82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C27-1F8E-4CBB-B5AA-1B06346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0D0-0485-4905-8100-329B3F7F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EEC-8FA4-47DB-B3E9-32E2BDD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5D3-8DE4-4884-B5E8-1E661C7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7EE-2C1D-4B34-AF0F-D90DFD6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2B1-B6AD-4729-8C7D-8E480CF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3271-544B-4CDD-BA2C-655B8D0865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