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791002"/>
        <c:axId val="1284278"/>
      </c:barChart>
      <c:catAx>
        <c:axId val="16791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4278"/>
        <c:crosses val="autoZero"/>
        <c:auto val="1"/>
        <c:lblAlgn val="ctr"/>
        <c:lblOffset val="100"/>
        <c:noMultiLvlLbl val="0"/>
      </c:catAx>
      <c:valAx>
        <c:axId val="12842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91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AF4-B5AC-4272-A25B-B85A1217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CF8D-58F9-4226-8489-C150E93F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98B-88F6-4E95-BD99-E6ADBB70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D7C-A77C-4F40-95A7-66C262A0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C19-1964-4F87-B28E-CB4B9E03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763E-1CF3-489F-8760-32B28BFF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C1B2-908E-4C58-9746-A0F5423C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96F0-5ECC-41DE-AC33-F18EA6E7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FBC0-9E39-4DAF-B70F-6B050516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E068-C5A4-45E4-97D4-5BC2E8AC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5D38-4D70-4FE5-A55B-1B638EB3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57ED-B608-48FB-BA21-80B07BDE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557F9-7334-4B4D-8AB9-E8AC3255DE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