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12776"/>
        <c:axId val="40723608"/>
      </c:barChart>
      <c:catAx>
        <c:axId val="696127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23608"/>
        <c:crosses val="autoZero"/>
        <c:auto val="1"/>
        <c:lblAlgn val="ctr"/>
        <c:lblOffset val="100"/>
        <c:noMultiLvlLbl val="0"/>
      </c:catAx>
      <c:valAx>
        <c:axId val="407236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127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0BAC-674C-4140-9671-FE36942F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0F1-F71C-4027-814C-DCE3778C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644-CD35-4398-A07D-B0E19401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3130-DC79-4608-9380-CF042A1D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105-F8D9-4E34-8C9D-64A7C8C5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4AE-77A9-47DE-A5CC-8FA4E065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145-6C55-4041-998D-1D324D9C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46D-B4F0-4C5D-90DB-060706DA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1B71-76EA-46AF-ACE2-BD61A9A6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0709-94C7-4431-8A37-4E0B17E7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96F7-30B0-4796-B4C6-4BABC826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79A-4F6B-4B48-8BFD-6441104D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D7665-4CA0-47BB-A97F-5C25B70ACB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