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50479"/>
        <c:axId val="21690885"/>
      </c:barChart>
      <c:catAx>
        <c:axId val="31450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90885"/>
        <c:crosses val="autoZero"/>
        <c:auto val="1"/>
        <c:lblAlgn val="ctr"/>
        <c:lblOffset val="100"/>
        <c:noMultiLvlLbl val="0"/>
      </c:catAx>
      <c:valAx>
        <c:axId val="21690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50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196-5DD9-49FC-A646-E07F349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E6A-544A-461B-A68B-0DF8152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D87-C138-41A6-8BC9-A6D3D24D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C1C-F013-4585-AC66-B47F0B3E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ACF-B308-4BB2-A387-00224DED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B7E-DB4E-4CCD-9667-63936A9B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9A5-A119-4939-B944-3905E6E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D9A-0B4B-4E9C-A6FC-C6644942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79B-9391-47A8-9789-985FDDC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106-0152-4C9C-AA67-23CF7361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51B-9F71-4A1D-B4B4-3381A95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579-066F-4F3E-9B36-34A00C4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DC9CE-027B-41DA-B69B-DFE773F8B7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