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90536"/>
        <c:axId val="48245714"/>
      </c:barChart>
      <c:catAx>
        <c:axId val="72905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245714"/>
        <c:crosses val="autoZero"/>
        <c:auto val="1"/>
        <c:lblAlgn val="ctr"/>
        <c:lblOffset val="100"/>
        <c:noMultiLvlLbl val="0"/>
      </c:catAx>
      <c:valAx>
        <c:axId val="482457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905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2C49-6641-4CF3-BE39-5A8F0C35E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84EF-3221-47BF-AF4E-861EA11F8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FE9F-8B46-43C0-9692-9E91C97E5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18869-3A97-43CD-A5D8-09950B65C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9B17-2E3B-422F-8FC2-E10E3B1E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3322A-9E71-4802-9D48-FF46BFFB3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2B7EF-992F-4AF3-BDF6-B5AD111C5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350F5-6C7F-4CB7-98E8-1A372AB6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A201-AEB4-47E4-BCB6-745DCC840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CBDF-3FF1-496C-8122-7CE47CDC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EA1D-AF98-46E7-8C99-E588E927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DF3A9-DC9B-42D4-AD77-223C4503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A78385-0DC8-46C0-A402-CBC0323E63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