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14454"/>
        <c:axId val="12844072"/>
      </c:barChart>
      <c:catAx>
        <c:axId val="12214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44072"/>
        <c:crosses val="autoZero"/>
        <c:auto val="1"/>
        <c:lblAlgn val="ctr"/>
        <c:lblOffset val="100"/>
        <c:noMultiLvlLbl val="0"/>
      </c:catAx>
      <c:valAx>
        <c:axId val="12844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14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A2C-1EE0-415F-8988-9F6824BA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475-241E-4629-B59D-F55EEF3C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98E-748E-485C-9CDE-06D50490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F40-5A07-4953-9AEA-2146C611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384-DC9B-4551-AACE-0BD458CF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8B4-BADE-4C30-98A2-E12D8250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76B-8A1E-4FC5-ADD6-069EEB92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149-6B6B-444A-A193-3BE6F45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EE8-A08C-4AB7-8B23-4F944FAC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775-0444-4DC8-96F6-645D5F02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F9A-E4E4-436D-A3C0-F4E0A8B5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6C0-DCA2-4A33-A647-77CF0F79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8C11F-A28A-4BEF-8366-5D5D563B8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