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681488"/>
        <c:axId val="2177619"/>
      </c:barChart>
      <c:catAx>
        <c:axId val="786814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7619"/>
        <c:crosses val="autoZero"/>
        <c:auto val="1"/>
        <c:lblAlgn val="ctr"/>
        <c:lblOffset val="100"/>
        <c:noMultiLvlLbl val="0"/>
      </c:catAx>
      <c:valAx>
        <c:axId val="21776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814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27D1-09AE-4B26-BF45-75F9876FA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54BB-5BE7-4342-A9BB-5635D15C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CEAD-590B-43EA-9B38-16CEE1B7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7388-0400-41FE-A46E-17F647A34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C390-1103-409B-85E7-29AE3613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1BDB-2B22-44F7-A053-1E3C13CC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BA5A-E062-44A9-9535-22A1ADDC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D1F5-92B6-4C0C-8A4B-AC000BA7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C1E3-D01B-489A-8AA2-5AA2277A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0CE5-A050-41E7-8AFC-1DDE9335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16DF-FB6A-4FE6-8F01-EC1C29F2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4367-87D8-4707-BD64-F712AFD2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73F09-6600-4E30-AB87-2738C92599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