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85700"/>
        <c:axId val="50036545"/>
      </c:barChart>
      <c:catAx>
        <c:axId val="7188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36545"/>
        <c:crosses val="autoZero"/>
        <c:auto val="1"/>
        <c:lblAlgn val="ctr"/>
        <c:lblOffset val="100"/>
        <c:noMultiLvlLbl val="0"/>
      </c:catAx>
      <c:valAx>
        <c:axId val="50036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2B5-B832-49E7-9CE4-94764C38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C8A-A759-4807-AE63-F7612BD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99C-E012-44C6-9F7D-649961CE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08B-D753-400C-90F2-F2055CF7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69E-B1A2-4D33-95F5-9E6E554E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7B2-8D68-424F-9315-45B5EA9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41E-2731-4980-B5E6-C5EF3C9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D37-4B6D-445E-9A86-36141633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EC0-BAF0-4E51-9FFB-0CEB288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A11-39A6-4EBC-A0DF-2250659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810-6A01-4FC1-86AB-5DCA58F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001-42C6-43AC-97CB-58EDB52C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78F85-32F0-4979-8CC9-9D0B3525D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