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6233"/>
        <c:axId val="42733947"/>
      </c:barChart>
      <c:catAx>
        <c:axId val="4176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33947"/>
        <c:crosses val="autoZero"/>
        <c:auto val="1"/>
        <c:lblAlgn val="ctr"/>
        <c:lblOffset val="100"/>
        <c:noMultiLvlLbl val="0"/>
      </c:catAx>
      <c:valAx>
        <c:axId val="42733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6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A40-E991-463B-A70C-EBC78917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0F5-DB7D-4BA4-AC4E-7815DCF1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447-CE1E-418D-BCDC-00686265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C89-F839-4FDC-AA26-B30D105F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35B-CFD9-4360-9731-F7AB07DB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447-7B9F-4DAF-A373-C75EA5FF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4A7-A0FC-4D42-B8B3-B74C5958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218-6C3C-4659-9DBB-F43D64A8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A22-F564-4ECC-9379-19C1DFB9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CDB-B56C-4D7C-9B05-11AD1B2B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AE7-F501-49BA-BF93-1D03F778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EFA-BD05-434C-ACFF-53A0CFD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9DAB9-86DD-49B9-8AB7-F04019AF8D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