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666"/>
        <c:axId val="16351794"/>
      </c:barChart>
      <c:catAx>
        <c:axId val="740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51794"/>
        <c:crosses val="autoZero"/>
        <c:auto val="1"/>
        <c:lblAlgn val="ctr"/>
        <c:lblOffset val="100"/>
        <c:noMultiLvlLbl val="0"/>
      </c:catAx>
      <c:valAx>
        <c:axId val="16351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ABC-88D4-4680-89D2-DE6FF412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A35-5564-414C-BC46-933E8424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FA0-95FE-468F-860D-1EC9FFCC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62A-423E-489B-84A7-56DA34C7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2EB-C583-49C1-9844-21C1547A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6AD-45BC-44EC-949C-A2BC6479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9CE-40F7-4D37-8C7C-E6058531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5F1-045F-4DBE-B5FF-A8C6EDA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446-047D-4DB6-8EF0-E2D33AFC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5B2-9DD1-4DC7-B07F-791FDF89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583-5C65-4B27-9CBB-B51AA1E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AC2-06AA-4FDC-81D1-8A9A295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FCF31-5B9B-42DA-B0B6-DB6AF11ACD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