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143577"/>
        <c:axId val="70792895"/>
      </c:barChart>
      <c:catAx>
        <c:axId val="541435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92895"/>
        <c:crosses val="autoZero"/>
        <c:auto val="1"/>
        <c:lblAlgn val="ctr"/>
        <c:lblOffset val="100"/>
        <c:noMultiLvlLbl val="0"/>
      </c:catAx>
      <c:valAx>
        <c:axId val="707928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435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7DA0-12BE-477F-97C9-5ECCCE7D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37F5-299E-410C-BFB8-F1FB8BB0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D71-F88F-4C92-8F06-68BD723C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63F3-C678-4816-9B0C-780F9DE6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373D-781A-4DE7-A1F5-106ED531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3B4B-76A1-4D96-91CB-FDDC06D5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FC5E-E419-45BC-8576-40F4291E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A81C-7C42-4808-9DF8-2C96A533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9115-9E7F-422B-96E9-95E22932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D4D9-BA75-477E-A7C2-6537709B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2E28-9722-4C9C-B128-209024B1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95B1-E06E-4F08-AB4C-30049AF3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5F0F6-FB89-40D5-9179-94D6CC7D3B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