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72882"/>
        <c:axId val="23788116"/>
      </c:barChart>
      <c:catAx>
        <c:axId val="50728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88116"/>
        <c:crosses val="autoZero"/>
        <c:auto val="1"/>
        <c:lblAlgn val="ctr"/>
        <c:lblOffset val="100"/>
        <c:noMultiLvlLbl val="0"/>
      </c:catAx>
      <c:valAx>
        <c:axId val="237881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28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DC55-A077-4136-96A2-3C8034D8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1B8B-3BBB-46E5-A1A5-BF0471D4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5B8E-6D8E-41EA-A8C3-BD4CDE44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5CE1-4274-46BE-9386-28688A69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692E-B5CE-485A-A10F-BF0D7C3C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BF0B-0063-4A45-93CA-F7524CF8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5049-3DBD-4E67-A8AA-38B00FE6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3AE0-124F-4CB5-B662-1B3F6B14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AA1F-472C-41E3-8C3D-8012048C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4932-5510-420E-9652-89159978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DBC0-0169-4B97-8B72-E770780F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02CE-176C-4502-8059-5AABC787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D9D5B-9094-4C6C-A521-F38291260D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