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039708"/>
        <c:axId val="52207950"/>
      </c:barChart>
      <c:catAx>
        <c:axId val="270397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207950"/>
        <c:crosses val="autoZero"/>
        <c:auto val="1"/>
        <c:lblAlgn val="ctr"/>
        <c:lblOffset val="100"/>
        <c:noMultiLvlLbl val="0"/>
      </c:catAx>
      <c:valAx>
        <c:axId val="522079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0397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D84FD-884F-475A-B54E-EE8AFCB48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B16C-8AA7-4CBB-8178-7ADB01F28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EDF9-6D58-4491-B24D-14B93FAEB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3DA00-F32F-4AD3-90E6-1D6B70E1A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10CDD-1672-4E09-B289-005999394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E5B48-DC13-4BBC-9019-D941BF3B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EE69-313F-4E3A-B439-F4AF9F3D3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66F6-42DA-436F-B056-1D035DE26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AB52-E6BE-42A4-80C8-8C8B6D440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A6CD-58AD-4A1F-A715-5CCAEC06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4B31-C4D4-4D24-B3A2-9ECB03E1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34FC-FE54-465A-A17C-EC7609230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0DA3B8-C2ED-4A13-84DB-7076AB90FC3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