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58228"/>
        <c:axId val="68034685"/>
      </c:barChart>
      <c:catAx>
        <c:axId val="40558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4685"/>
        <c:crosses val="autoZero"/>
        <c:auto val="1"/>
        <c:lblAlgn val="ctr"/>
        <c:lblOffset val="100"/>
        <c:noMultiLvlLbl val="0"/>
      </c:catAx>
      <c:valAx>
        <c:axId val="68034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8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45D-A3A6-4BDB-9561-14287541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6A4-412C-40D3-90A2-3F7C303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7AE-EFD2-430A-8EA4-6BF6AC07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BB1-DD51-480D-A093-13EAAD86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5AA-E883-4956-8002-CC3F8A75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3D5-3AC1-40BD-80BD-729B0AC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88E-868C-4DCE-9E01-A699609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118-919E-4EEE-B558-3157E8F7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63B-B40A-430D-AFD6-01CB57B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766-354E-4D11-9943-27021EE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EB7-2737-4FA1-A5E9-107F2E7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B5E-F0F1-4647-87A2-7B942810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D40C4-1A17-46FA-B1E6-BDB3E1B57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