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04532"/>
        <c:axId val="5185018"/>
      </c:barChart>
      <c:catAx>
        <c:axId val="4610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5018"/>
        <c:crosses val="autoZero"/>
        <c:auto val="1"/>
        <c:lblAlgn val="ctr"/>
        <c:lblOffset val="100"/>
        <c:noMultiLvlLbl val="0"/>
      </c:catAx>
      <c:valAx>
        <c:axId val="5185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0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D9D-2994-41C2-9BFE-1AED916A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ECD-2899-4A4F-9848-4FB992B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2FC-87D3-4E3B-99BD-55DE8E4A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6CD-9BFE-4D26-8AE1-266D05D0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93C-4B0C-4343-BF61-0E796CA7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738-BEE5-4EF1-AB43-641C8F6F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C89-871D-4322-8A5F-D2481F3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362-5F07-4EED-A557-7C72972E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EAF-11AB-457A-85E4-43B54338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454-D2A4-4868-8D88-0E08654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EBC-3888-403E-84C7-7D987A5A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336-4D9F-4021-890A-AC3D7C9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BC117-18DC-4895-A96E-E8CD21CA0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