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67201"/>
        <c:axId val="70159798"/>
      </c:barChart>
      <c:catAx>
        <c:axId val="482672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59798"/>
        <c:crosses val="autoZero"/>
        <c:auto val="1"/>
        <c:lblAlgn val="ctr"/>
        <c:lblOffset val="100"/>
        <c:noMultiLvlLbl val="0"/>
      </c:catAx>
      <c:valAx>
        <c:axId val="70159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72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CB68-641A-445D-B5E7-ABB0AF0A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AA9-2C99-4247-BA97-718927DE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205-8362-45BF-9F88-9305331B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0A6-1024-4624-8A61-C10A9AFA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33C-DA41-41D6-AA8C-9DD08B9F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472-1238-4A44-B201-90DC95D7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A70-57D6-4A08-8467-11381283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EC0-C5B0-41A6-B275-352C7360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3BE-3779-4D96-B029-6A12CB0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125-4B55-47D8-A066-806E259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3D84-9945-43DF-B175-D7FAB28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5C8-3B2B-4C70-9886-39BF815D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D1598-B80A-455A-93AF-9789271901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