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66353"/>
        <c:axId val="21343449"/>
      </c:barChart>
      <c:catAx>
        <c:axId val="79266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43449"/>
        <c:crosses val="autoZero"/>
        <c:auto val="1"/>
        <c:lblAlgn val="ctr"/>
        <c:lblOffset val="100"/>
        <c:noMultiLvlLbl val="0"/>
      </c:catAx>
      <c:valAx>
        <c:axId val="213434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66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7F2B-AEEC-4959-B7F4-D5B235CD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A367-EA7E-4603-88CA-11A37918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A48A-B14B-4CCB-8152-F5108B96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63CE-D215-44C8-834D-609E758E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A66-496A-4764-BEEB-AF454F93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D048-14C7-479B-8D9C-9D35E699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429-BEE2-433E-8831-2F953B07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E63B-198D-4C54-96B4-7D3990A3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643-69E0-41A9-88E6-95ABE495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67A2-B09D-484F-B491-3BC87740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1C61-381F-4061-A4D6-F53A6CE2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2DB-AADD-437F-B9A7-07890702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FA333-3B14-448D-ACFF-0170AA39A4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