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217129"/>
        <c:axId val="99409133"/>
      </c:barChart>
      <c:catAx>
        <c:axId val="372171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409133"/>
        <c:crosses val="autoZero"/>
        <c:auto val="1"/>
        <c:lblAlgn val="ctr"/>
        <c:lblOffset val="100"/>
        <c:noMultiLvlLbl val="0"/>
      </c:catAx>
      <c:valAx>
        <c:axId val="994091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2171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B43A-A87D-440E-BE80-50C6828D8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718E-1768-4F30-BB2D-C21F96AB4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1CF8-5695-442D-8DCD-89E70BD0C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626A-7446-457D-9622-4B467A9F9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918C-7A53-4FC0-8B05-308778A4D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EC77-545A-463B-9A28-576A6CC1C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53AF-B49C-40BC-9288-B2D7D69E5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75FC-1CFE-4B10-9CAB-99FD4931E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3797-31E4-4742-8E59-CD214E053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E768-BF54-4892-BB5D-3DEF05EFE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C958-F5E1-4840-9D0E-1F8696F48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7B76-F02A-4B8B-8657-126F75721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FF0918-EEDE-4C7B-984F-38996227207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