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84678"/>
        <c:axId val="62513331"/>
      </c:barChart>
      <c:catAx>
        <c:axId val="14384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13331"/>
        <c:crosses val="autoZero"/>
        <c:auto val="1"/>
        <c:lblAlgn val="ctr"/>
        <c:lblOffset val="100"/>
        <c:noMultiLvlLbl val="0"/>
      </c:catAx>
      <c:valAx>
        <c:axId val="625133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84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D225-32F9-4116-A5B5-3E62741E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7DF2-0C8B-465F-B05C-F8151E11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5C1C-66B6-41A8-84DE-69197A4A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9E5E-9984-49BC-AFDC-606D6B7E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CA9-DC38-4BAA-BEDD-5A74D76A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1D6D-D8C7-4686-BDC2-F85E9C5B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C03A-8D7F-40AD-9284-A1DED694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EC66-FC17-4FDF-A073-9CC0D036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CC6-9264-4C94-A3C6-E46E79D9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95FB-A70E-423F-97CA-18FCBF9F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89A-E62C-4EE0-80B9-A7CD1586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673-1759-4A29-9350-DB70D7D3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8884C-B936-4441-921E-775F2B222C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