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86024"/>
        <c:axId val="87799125"/>
      </c:barChart>
      <c:catAx>
        <c:axId val="64986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99125"/>
        <c:crosses val="autoZero"/>
        <c:auto val="1"/>
        <c:lblAlgn val="ctr"/>
        <c:lblOffset val="100"/>
        <c:noMultiLvlLbl val="0"/>
      </c:catAx>
      <c:valAx>
        <c:axId val="87799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6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1C6-FEF9-4735-A65F-82F2B798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193-9245-4AC0-B876-D579B8C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64D-3C31-4242-A859-556FE01E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0B6-D980-470A-9D31-54B20F04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BE7-4C35-4DA1-87F6-F87F491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C75-17F8-4A11-B9D9-13488A6A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013-8826-4551-A1EB-9110BCA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EAD-3DD7-433D-96F2-3F915AD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1D4-9C5C-40A2-B58F-8875044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961-B040-4A4B-A188-2D48CF0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52D-E83C-4A4D-AE0B-9327930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24C-B43D-42E7-B271-7A29CAF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6C50-2866-4C3D-95A7-F3FFBB74C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