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0302"/>
        <c:axId val="27344827"/>
      </c:barChart>
      <c:catAx>
        <c:axId val="7500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44827"/>
        <c:crosses val="autoZero"/>
        <c:auto val="1"/>
        <c:lblAlgn val="ctr"/>
        <c:lblOffset val="100"/>
        <c:noMultiLvlLbl val="0"/>
      </c:catAx>
      <c:valAx>
        <c:axId val="27344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0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E18-7DDB-4288-8382-4A4B81C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369-2101-417A-AE06-FCC16990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DDD-7D35-450B-9B3D-C7301D49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A90-9477-4B23-96B6-8AD7FE8B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225-F53F-42B8-A098-B7ACF13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0D6-1B81-4025-B59C-BA70994D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1E8-47EB-42A7-A7E7-9874BB17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32F-29DA-413B-BF7F-A6C2350E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34C-51B7-4DAD-9CDE-0D7AF425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3D5-1EE8-4553-8EA6-65EEA3D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EE2-E582-41B0-844F-23AAF04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9C5-6A4B-40E3-824A-D170CD8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51A5A-6B4F-4583-B9FD-E6C53A886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