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44994"/>
        <c:axId val="35767202"/>
      </c:barChart>
      <c:catAx>
        <c:axId val="29844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67202"/>
        <c:crosses val="autoZero"/>
        <c:auto val="1"/>
        <c:lblAlgn val="ctr"/>
        <c:lblOffset val="100"/>
        <c:noMultiLvlLbl val="0"/>
      </c:catAx>
      <c:valAx>
        <c:axId val="35767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44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65C-A255-4EC1-952D-408C9828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9BC-B25E-4932-8A6A-BA7354E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D4D-EF0F-4120-9147-2D46C7A4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101-7766-4D8E-B3DB-2511B591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AE4-C2A3-4BF3-9BBF-A074F622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2E6-A6B9-490E-A801-1D349C7E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143-6842-4815-82D0-4535CACE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3FC-2C37-4563-84DF-F83215A7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D98-1782-4909-BB5B-B1DD2DCC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11F-A1E6-4FD8-B6AD-C3BC07C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EA9-56CF-44CA-A7E1-032649D0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EDB-631A-4780-9928-030732EF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53571-34AF-468C-A600-13E6669E3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