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50309"/>
        <c:axId val="97605234"/>
      </c:barChart>
      <c:catAx>
        <c:axId val="56150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05234"/>
        <c:crosses val="autoZero"/>
        <c:auto val="1"/>
        <c:lblAlgn val="ctr"/>
        <c:lblOffset val="100"/>
        <c:noMultiLvlLbl val="0"/>
      </c:catAx>
      <c:valAx>
        <c:axId val="97605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0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09A-2D47-4CF2-8528-C0E5AF7C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01F-F40A-473E-A7B6-4EF17A98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44D-15D5-4B63-B9F2-223DF8E0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192-47DC-4EF4-ADC8-7A0AE181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D3A-63AE-458C-8987-4A304BAB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53F-E062-4B71-ACEB-AFA9E462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F1A-C92C-4711-8781-537B704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C91-6FA1-480E-A3E1-B767F2A3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86C-B663-43A9-87B4-5D1A1A9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23C-786A-4281-8A28-8E11B0BE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CDA-6C2D-4D4C-873B-29E5EE4E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E87-7169-4DDD-B7C2-9BCA5B3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3DF62-69A6-4387-93C7-EE475663B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