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57884"/>
        <c:axId val="95433839"/>
      </c:barChart>
      <c:catAx>
        <c:axId val="66257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33839"/>
        <c:crosses val="autoZero"/>
        <c:auto val="1"/>
        <c:lblAlgn val="ctr"/>
        <c:lblOffset val="100"/>
        <c:noMultiLvlLbl val="0"/>
      </c:catAx>
      <c:valAx>
        <c:axId val="95433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57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729-1603-465B-A703-29BF85B1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185-91C0-4B78-8729-6DBA737A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D50-12AC-4FD0-9E46-DF9E6B91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DC8-E58A-497C-AB4A-5BD71B7C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6A1-79CB-44FC-A1A5-79DC4287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543-8F05-441A-A9CD-5AC6A6F4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2E5-A256-4A3A-B937-46C94702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26F-19DC-4762-BF64-90E82F36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633-5E79-4340-9EE5-83CBF32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D2A-FF7A-4229-A3D8-DB8C37F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CCE-E20D-479D-A98C-1AD6E1D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92E-DF44-4E7F-9312-349DD39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2634-6F21-4FD2-B4A8-A64B78E22E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