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5517"/>
        <c:axId val="34631736"/>
      </c:barChart>
      <c:catAx>
        <c:axId val="9595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31736"/>
        <c:crosses val="autoZero"/>
        <c:auto val="1"/>
        <c:lblAlgn val="ctr"/>
        <c:lblOffset val="100"/>
        <c:noMultiLvlLbl val="0"/>
      </c:catAx>
      <c:valAx>
        <c:axId val="34631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98F-CE67-49D5-ACB9-FCC17AFA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F1C-EE5D-4852-BAA2-644C218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E91-E956-48E0-92FE-21F8550B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1E0-4EEC-4DD9-BB6A-83FC3689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039-8ECC-4547-8154-02A979D9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16D-243E-40A6-9B39-ADEBC018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C0B-DF47-4D5C-A7D9-320B0BC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C34-8BEC-460D-9740-CE2496F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AD7-1604-46E5-9F1F-A5C0ECE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247-40B3-4FBB-845D-D399554C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DE1-95DA-440C-8C37-3131179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CC-F82F-4257-85C0-BAE4D6C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C0452-C8E6-46B2-A078-3B87D63D9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