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7586"/>
        <c:axId val="98951492"/>
      </c:barChart>
      <c:catAx>
        <c:axId val="54837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51492"/>
        <c:crosses val="autoZero"/>
        <c:auto val="1"/>
        <c:lblAlgn val="ctr"/>
        <c:lblOffset val="100"/>
        <c:noMultiLvlLbl val="0"/>
      </c:catAx>
      <c:valAx>
        <c:axId val="98951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7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5C8-2EA2-437E-B9A3-18269267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7A3-2306-4694-87E0-083124B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9BC-44DD-4CD1-BC11-E61DF75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0DF-6858-4501-8FF9-FA27C038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69A-31A0-44E1-9282-9BD07CA2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CC7-CA88-4680-83EF-8847441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C00-DCB1-4F62-A0AA-2AAB792F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BB4-1346-4BB4-85BB-2963F009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ECA-2745-44D9-88B5-D20EDDEB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31A-A4C7-4A9A-985C-758CBE8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D43-71FA-4F14-B283-53872DF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FA9-E32C-44BE-A1EE-DD65ED5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768D-4B98-4AFE-921B-86E475736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